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37E-77FA-416B-9E75-33088891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335-C513-49A9-AF71-9273914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6AE-2C0F-445D-820A-67413B74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9B5-FA59-4A7C-978E-EA0C72AA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4999-AD52-4ED8-92F1-914031B4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54AB-2E29-4FA5-9F9C-6A39F172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3559-C559-422E-9EAD-8D0DC7E7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1FC-3EFE-4FF5-A13D-D71CB29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711C-486B-4510-B185-EDB16A77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6BAC-EB63-4797-9AA0-C209FE56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6308-B462-4879-8522-8AF10D3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714-8785-423B-9C04-1884FEA5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AC15-6A11-49E4-9B91-DE6FD3B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5251-4C0B-4D53-81E1-685F1CD6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44C4-0032-42DD-9BC2-6D79BBE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771-501E-4BD2-A3D9-A5204FBE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619-36B4-488E-B2A4-B2FD5B00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60F-39A3-48FF-A424-A6B9FC5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B70-E689-4BE5-BF23-CBD1C205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E0-C3CF-4B32-9A25-51EFE270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89A-95CD-46A8-AA52-16C8AA3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71A-DAA1-4469-9AE0-4FAAD5E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0D4-2400-4F9F-B628-02BF7A1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B88-B29F-4D09-B080-B939BB05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DBB1-1D27-4E0B-9A8F-EFA745E310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4475-BD07-44BC-A485-4C3319CA02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ggie jackson swinged like a dynamo and hit three home runs in the final game of the 1977 world se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 cobb is the 1st player excepted into the baseball hall of f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19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ck one movie you have seen and disliked.  Write a review of that movie and explain why you didn’t like i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Adams and Thomas Jefferson, our second and third Presidents both died on the fourth of July in 1826. On the 5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niversary of the signing of the Declaration of Independence (isn’t that amazi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 his deathbed, the philosopher socrates said “I ma not an athenian [a resident of Athens Greece] nor a Greek but a Citizen of the World,” neverthelss, Greek citizens accused his of corrupting the minds of young Atheni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20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ontaneous Writing: Magn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sle/I’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sl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noun) – a walkway between or along sections of a theater, a classroom, or the li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) Jake walked up and down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is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rying to find a sea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’ll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contraction of I w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)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’l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keep my promises if I am elected class presid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581280"/>
            <a:ext cx="8763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s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Aisle, I’ll) Be Seeing You in Apple Blossom Time” is an old ball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There is a question as to whether or not (aisle, I’ll) be able to complete the jo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Heather looked absolutely beautiful as she walked down the church (aisle, I’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(Aisle, I’ll) give it my very best effort, as I always 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2:09Z</dcterms:created>
  <dc:creator>tpagel</dc:creator>
  <dc:description/>
  <dc:language>en-US</dc:language>
  <cp:lastModifiedBy>tpagel</cp:lastModifiedBy>
  <dcterms:modified xsi:type="dcterms:W3CDTF">2010-06-03T16:52:42Z</dcterms:modified>
  <cp:revision>1</cp:revision>
  <dc:subject/>
  <dc:title>Warm-Up Sentences</dc:title>
</cp:coreProperties>
</file>